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D6C-C12E-4056-A5F2-53E63408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971-A060-48F7-BA3F-125EF235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DD1-6161-4FF2-ACC6-88F7AFD6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F13-4139-41D9-8E38-3A2B7816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AD9-7381-4F90-A090-D640D332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5E3-154D-49E9-892D-DE746EC7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CBE-24CE-433C-9FCA-F3214DDE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D02-AB41-4E3E-BEE0-8337C65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494-BC11-4F5C-A0A0-1323A3B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51D-A1FA-4CDD-AAB0-6AA3763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C58-5F29-4960-A5B2-B7DC0A1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E63-5E4E-42F8-AC41-870E174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E86A-10CF-43A3-A3FD-7B3A75EBA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10.6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pendent Events and Conditional Probability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Q: How do we find conditional probabilities and the probability of dependent ev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one roll of a number cube, let A be the event “even” and B be the event “2”. Find each of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P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P(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(A and 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P(A or 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 P(B|A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 P(A|B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P(A) =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P(B) = 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(A and B) = 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P(A or B) =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 P(B|A) = 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 P(A|B)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668 – Lesson 10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9-23, 32-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endent events – the probability of a second event occurring is affected by what happens in the first even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Key Words: Without Replacemen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rd is drawn from a deck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 replac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 Then a second card is dra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g contains 8 red marbles, 9 yellow marbles, and 5 blue marbles. Two consecu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made without replacement. Find each of the following prob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4572000"/>
            <a:ext cx="854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A red first and a red sec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 yellow first and a blue sec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A blue first and a red sec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56/4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45/4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40/4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probability - the probability of a second event occurring, given that you already know the first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al probability of event B, given event A is denoted by P(B|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foun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676520" y="4876920"/>
          <a:ext cx="59436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876920"/>
                    <a:ext cx="5943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ational Honor Society at a local high school has 20 members and the FBLA has 18 members.  Twelve members of the FBLA are also in the honor society.  Find the probability that a randomly selected student is a member of FBLA if it is known that he is a member of the honor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6019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20 = 3/5 = 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number cubes are rolled, and the first cube shows a 5.  Find the probability of each ev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 A sum of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 Two odd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A sum of 7 or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1/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1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3:26:54Z</dcterms:created>
  <dc:creator>nspano</dc:creator>
  <dc:description/>
  <dc:language>en-US</dc:language>
  <cp:lastModifiedBy>Student</cp:lastModifiedBy>
  <dcterms:modified xsi:type="dcterms:W3CDTF">2012-04-26T18:19:48Z</dcterms:modified>
  <cp:revision>16</cp:revision>
  <dc:subject/>
  <dc:title>Section 10.6</dc:title>
</cp:coreProperties>
</file>